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CC9-C318-497F-8633-1BE1EBE1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B86-D085-4D01-BBE4-73B1A7EF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AB8-49E9-4AD9-973C-C91739B7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19E-85ED-4049-898E-2A16C7FB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11A-2062-4E30-B5CB-6DC870FB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706-E017-4A22-96FC-70114AC3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B3A-64F5-4D25-9F93-2BEFC216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D4C-D339-49C6-99DA-D3A59514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7AE-8BC2-4F8C-AAD3-0B52EFD4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E32-0146-49CD-9367-5DEE6C0A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701-FAA5-441B-96E7-C32CE0C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3FD-304C-415F-A0B6-4956908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3C06-A19B-4D54-B0C4-31DFC20B183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70c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70c0"/>
                </a:solidFill>
                <a:latin typeface="Verdana"/>
              </a:rPr>
              <a:t>Extensión: Máximo 15 diapositivas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70c0"/>
                </a:solidFill>
                <a:latin typeface="Verdana"/>
              </a:rPr>
              <a:t>Formato : envío en formato “Presentación” de Powerpoint 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70c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70c0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39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fiérase al Diagrama de Modelo de Negocio propues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dentifique al (a la) director(a) del proyecto e indique sus capacidades de gestión para dirigir proyectos de I+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2 CuadroTexto"/>
          <p:cNvSpPr/>
          <p:nvPr/>
        </p:nvSpPr>
        <p:spPr>
          <a:xfrm>
            <a:off x="457200" y="765000"/>
            <a:ext cx="70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dentifique al equipo del proyecto y señale sus capacidades científico tecnológicas  para el éxito del proyecto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800" spc="-1" strike="noStrike">
                <a:solidFill>
                  <a:srgbClr val="0070c0"/>
                </a:solidFill>
                <a:latin typeface="Verdana"/>
                <a:ea typeface="Verdana"/>
              </a:rPr>
              <a:t> Incorpore el título aquí 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98989"/>
                </a:solidFill>
                <a:latin typeface="Verdana"/>
                <a:ea typeface="Verdana"/>
              </a:rPr>
              <a:t>PROGRAMA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98989"/>
                </a:solidFill>
                <a:latin typeface="Verdana"/>
                <a:ea typeface="Verdana"/>
              </a:rPr>
              <a:t>III CONCURSO IDeA EN DOS ET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898989"/>
                </a:solidFill>
                <a:latin typeface="Verdana"/>
                <a:ea typeface="Verdana"/>
              </a:rPr>
              <a:t>FONDEF- CONICY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23640" y="500040"/>
            <a:ext cx="8515080" cy="60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uál es el problema que se está investigand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¿Cómo se ha enfrentado el problema en el resto del mundo hasta ahora? </a:t>
            </a:r>
            <a:br>
              <a:rPr sz="1600"/>
            </a:br>
            <a:r>
              <a:rPr b="0" i="1" lang="es-CL" sz="1100" spc="-1" strike="noStrike">
                <a:solidFill>
                  <a:srgbClr val="000000"/>
                </a:solidFill>
                <a:latin typeface="Verdana"/>
              </a:rPr>
              <a:t>Presente el análisis del estado del arte y el análisis de la vigencia de la investigación que se está desarrollando en el contexto mundial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23640" y="1916280"/>
            <a:ext cx="8621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1388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criba la solución que usted propone. Indique cuáles serían sus atributos diferenciadores con respecto a lo existente. Si este proyecto es continuidad de un proyecto anterior, indique código, resultados obtenidos anteriormente y establezca los aportes de la nueva propuest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ñale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cuáles son las hipótesis de la investigación y los objetivos de la propuesta.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escriba la metodología experimental a utiliza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600"/>
            </a:b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Use diagramas.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scriba a los usuarios y/o beneficiarios finales de los resultados del proyecto.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ndique entidad(es) interesada(s) que participan en el proyecto. Destaque su interés y pertinencia para el proyecto.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Francisco Vargas Brancoli</cp:lastModifiedBy>
  <cp:lastPrinted>2003-12-19T18:55:15Z</cp:lastPrinted>
  <dcterms:modified xsi:type="dcterms:W3CDTF">2016-01-20T17:34:46Z</dcterms:modified>
  <cp:revision>103</cp:revision>
  <dc:subject/>
  <dc:title>Formato Tipo Presentación Or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