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4D9-21EB-4AE7-A606-18589EF4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DD2-9349-46FA-80D6-930D330B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07C-57C4-4AD8-BC40-506B9C5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6C1-455E-44E0-99B1-A1F5A75E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AB2-8DE4-42AF-9F1E-1E7F4C22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17A-CFC9-42F1-96F4-6FAD96A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B72-8792-4539-BF0E-7371E8AD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B1D-F995-4371-8CC6-D12CFFF0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AD4-A69A-4AC7-8DE8-F5ED381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429-37A8-4246-A280-3A979B01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8B7-6C93-48A6-AB87-94A5318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C99-4762-4999-8B1A-0B94B69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3F3-D35D-4383-B7C0-9470A37A239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ostulación Concurso Equipamiento Med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600200" y="1197000"/>
            <a:ext cx="5943600" cy="5010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cces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4724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decuación de Infraestruc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09840" y="1557360"/>
            <a:ext cx="6124320" cy="4390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7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stalación y Puesta en Mar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04960" y="1033560"/>
            <a:ext cx="7534080" cy="4790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paci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66800" y="1542960"/>
            <a:ext cx="7610400" cy="377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n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2 CuadroTexto"/>
          <p:cNvSpPr/>
          <p:nvPr/>
        </p:nvSpPr>
        <p:spPr>
          <a:xfrm>
            <a:off x="5661360" y="587700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Calibri"/>
              </a:rPr>
              <a:t>Mantención es oblig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42840" y="1341360"/>
            <a:ext cx="7258320" cy="5114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28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iempo de U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663560" y="515880"/>
            <a:ext cx="5788080" cy="4422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763640" y="4821120"/>
            <a:ext cx="5616720" cy="1905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Indica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42800" y="1700280"/>
            <a:ext cx="6315120" cy="2736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esupue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55600" y="1268280"/>
            <a:ext cx="8888400" cy="4489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esupue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 CuadroTexto"/>
          <p:cNvSpPr/>
          <p:nvPr/>
        </p:nvSpPr>
        <p:spPr>
          <a:xfrm>
            <a:off x="203760" y="59133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presupuesto será una planilla de calculo con validaciones de los requisitos especificados 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s bases de concurso, esta imagen es solo referen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ocumentos Adju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5472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ostul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 continuación, de manera referencial se incluyen vistas del sistema de postulación para conocimiento de los postulantes de la información que será solicitada al momento de postular en la plataforma on-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odrían existir modificaciones mínimas de visual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74720" y="1125360"/>
            <a:ext cx="5199120" cy="547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ocumentos Adju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00000" y="947880"/>
            <a:ext cx="3397320" cy="5802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atos obligatorios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istema de Postul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753000" cy="32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716360" y="1552680"/>
            <a:ext cx="3930840" cy="3531960"/>
          </a:xfrm>
          <a:prstGeom prst="rect">
            <a:avLst/>
          </a:prstGeom>
          <a:ln w="0">
            <a:noFill/>
          </a:ln>
        </p:spPr>
      </p:pic>
      <p:sp>
        <p:nvSpPr>
          <p:cNvPr id="47" name="4 Flecha derecha"/>
          <p:cNvSpPr/>
          <p:nvPr/>
        </p:nvSpPr>
        <p:spPr>
          <a:xfrm>
            <a:off x="4356000" y="4437000"/>
            <a:ext cx="647640" cy="287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2 CuadroTexto"/>
          <p:cNvSpPr/>
          <p:nvPr/>
        </p:nvSpPr>
        <p:spPr>
          <a:xfrm>
            <a:off x="641160" y="5732640"/>
            <a:ext cx="83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 caso de no tener ingresado su curriculum el sistema le pedirá crear uno, para efe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ta postulación, en la pestaña de Revisión/Envío están definidos los ítems obligatori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que debe tener su CV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8964720" cy="4415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ista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84160" y="4005360"/>
            <a:ext cx="6640560" cy="2638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stitución Respons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Institución Responsable será aquella institución proponente que se adjudique el proyecto de Equipamiento Científico y que se hará cargo de toda la ejecución de éste. La Institución Responsable será la receptora de los recursos destinados exclusiva y directamente para el desarrollo de este Proyecto, y al mismo tiempo será responsable frente a CONICYT de la oportuna entrega de los informes técnicos solicitados, así como de las rendiciones de cuenta correspondientes y la caución de los recursos transferidos si así correspondiese. Además, deberá proporcionar los aportes pecuniarios y no pecuniarios señalados en las bases de concurso. La Institución Responsable será la propietaria del equipamiento adquiri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En la pestaña 7 "Documentos Adjuntos" se debe adjuntar la personería jurídica de la Institución Respons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 CuadroTexto"/>
          <p:cNvSpPr/>
          <p:nvPr/>
        </p:nvSpPr>
        <p:spPr>
          <a:xfrm>
            <a:off x="6349320" y="609300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Calibri"/>
              </a:rPr>
              <a:t>Universidad Acredit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2680" y="835200"/>
            <a:ext cx="6060960" cy="211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82680" y="2803680"/>
            <a:ext cx="6060960" cy="190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95280" y="4694400"/>
            <a:ext cx="5905440" cy="2172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Justificación/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773280"/>
            <a:ext cx="6119640" cy="344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79440" y="4221000"/>
            <a:ext cx="6359400" cy="237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quipo Princi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7253280" cy="388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quipo Princi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486560" cy="5190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quipo Princi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20:07:59Z</dcterms:created>
  <dc:creator>Alejandra Reyes Gatica</dc:creator>
  <dc:description/>
  <dc:language>en-US</dc:language>
  <cp:lastModifiedBy>Alejandra Reyes Gatica</cp:lastModifiedBy>
  <dcterms:modified xsi:type="dcterms:W3CDTF">2012-09-07T15:31:14Z</dcterms:modified>
  <cp:revision>13</cp:revision>
  <dc:subject/>
  <dc:title>Presentación de PowerPoint</dc:title>
</cp:coreProperties>
</file>